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66031-C259-4857-A088-3141A1DE4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E43AD0-8F16-4E28-8F30-3A937C3ED5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AF1DA-0BB9-4D7D-B73A-B98AB2CDA6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8A615A-1182-4B08-8BC0-8E668FBD7B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5DAC-12A7-49E6-B98F-F134C9A9F0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2289-070E-4C4A-A102-14AB0606D6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CF4B0-58DE-4C8D-8DB3-DD2FB0A726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0072A8-8ACB-450D-889B-DB20CD1B20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F5D3F-608D-4C0F-93D7-2A06E445D6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E54EDB-3229-413A-B30D-4F6D1D04F5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1A12A-9922-4F14-8F8F-0F328653A2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FA25-C919-4ACE-912C-0163082CA7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A709AE-6AD1-41BB-9A0A-3DE96E3F3DF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9-28T13:18:03Z</dcterms:created>
  <dc:creator/>
  <dc:description/>
  <dc:language>en-US</dc:language>
  <cp:lastModifiedBy/>
  <cp:revision>0</cp:revision>
  <dc:subject/>
  <dc:title/>
</cp:coreProperties>
</file>